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remlaugh.wav" ContentType="audio/x-wav"/>
  <Override PartName="/ppt/media/image20.png" ContentType="image/png"/>
  <Override PartName="/ppt/media/image18.png" ContentType="image/png"/>
  <Override PartName="/ppt/media/image6.png" ContentType="image/png"/>
  <Override PartName="/ppt/media/image19.png" ContentType="image/png"/>
  <Override PartName="/ppt/media/boing.wav" ContentType="audio/x-wav"/>
  <Override PartName="/ppt/media/driveby.wav" ContentType="audio/x-wav"/>
  <Override PartName="/ppt/media/image21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9.png" ContentType="image/png"/>
  <Override PartName="/ppt/media/yeaahh!.wav" ContentType="audio/x-wav"/>
  <Override PartName="/ppt/media/image5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chicken.wav" ContentType="audio/x-wav"/>
  <Override PartName="/ppt/media/image3.png" ContentType="image/png"/>
  <Override PartName="/ppt/media/shav-n-haircut.wav" ContentType="audio/x-wav"/>
  <Override PartName="/ppt/media/image1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goofylaugh2.wav" ContentType="audio/x-wav"/>
  <Override PartName="/ppt/media/image2.png" ContentType="image/png"/>
  <Override PartName="/ppt/media/image15.png" ContentType="image/png"/>
  <Override PartName="/ppt/media/splash.wav" ContentType="audio/x-wav"/>
  <Override PartName="/ppt/media/image14.png" ContentType="image/png"/>
  <Override PartName="/ppt/media/carhorn2.wav" ContentType="audio/x-wav"/>
  <Override PartName="/ppt/media/itworked.wav" ContentType="audio/x-wav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06F-8431-4308-AC1C-C58A3834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146-75C9-445B-B9AA-F6FDABE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7A2-9086-4A64-9CC2-A5D26DE2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5F4-6326-4817-AE8A-E2EFA15A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A5A-FEB5-4CA6-9292-49A6E220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4E3-D60A-49A6-9A0A-92547D8C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CE2-7D76-4C43-9A3E-3FBF6DFA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A42-E946-4846-8492-094CC27D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C98-7F0E-4884-A86A-2050F9F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626-3351-4265-BEB3-5A76E19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3CB-BCCB-47B6-BCF1-F3C86E0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53E-0B69-44B3-8651-764AC39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00D-1393-4BF7-BA43-2DE68C7F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hav-n-haircut.wav"/><Relationship Id="rId4" Type="http://schemas.openxmlformats.org/officeDocument/2006/relationships/audio" Target="../media/spla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boin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itworke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audio" Target="../media/carhorn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gremlaug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goofylaugh2.wav"/><Relationship Id="rId4" Type="http://schemas.openxmlformats.org/officeDocument/2006/relationships/audio" Target="../media/chicke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yeaahh!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914400"/>
            <a:ext cx="5791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rs Around U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6716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3623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72000" y="2895480"/>
            <a:ext cx="3876840" cy="2579760"/>
            <a:chOff x="4572000" y="2895480"/>
            <a:chExt cx="3876840" cy="2579760"/>
          </a:xfrm>
        </p:grpSpPr>
        <p:sp>
          <p:nvSpPr>
            <p:cNvPr id="45" name=""/>
            <p:cNvSpPr/>
            <p:nvPr/>
          </p:nvSpPr>
          <p:spPr>
            <a:xfrm>
              <a:off x="4572000" y="2895480"/>
              <a:ext cx="961920" cy="263520"/>
            </a:xfrm>
            <a:custGeom>
              <a:avLst/>
              <a:gdLst/>
              <a:ahLst/>
              <a:rect l="l" t="t" r="r" b="b"/>
              <a:pathLst>
                <a:path w="606" h="166">
                  <a:moveTo>
                    <a:pt x="601" y="65"/>
                  </a:moveTo>
                  <a:cubicBezTo>
                    <a:pt x="486" y="27"/>
                    <a:pt x="381" y="13"/>
                    <a:pt x="260" y="0"/>
                  </a:cubicBezTo>
                  <a:cubicBezTo>
                    <a:pt x="133" y="17"/>
                    <a:pt x="116" y="15"/>
                    <a:pt x="33" y="98"/>
                  </a:cubicBezTo>
                  <a:cubicBezTo>
                    <a:pt x="28" y="114"/>
                    <a:pt x="0" y="143"/>
                    <a:pt x="17" y="146"/>
                  </a:cubicBezTo>
                  <a:cubicBezTo>
                    <a:pt x="128" y="166"/>
                    <a:pt x="277" y="110"/>
                    <a:pt x="390" y="98"/>
                  </a:cubicBezTo>
                  <a:cubicBezTo>
                    <a:pt x="606" y="76"/>
                    <a:pt x="601" y="152"/>
                    <a:pt x="601" y="65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4120" y="4114800"/>
              <a:ext cx="349200" cy="696960"/>
            </a:xfrm>
            <a:custGeom>
              <a:avLst/>
              <a:gdLst/>
              <a:ahLst/>
              <a:rect l="l" t="t" r="r" b="b"/>
              <a:pathLst>
                <a:path w="220" h="439">
                  <a:moveTo>
                    <a:pt x="189" y="0"/>
                  </a:moveTo>
                  <a:cubicBezTo>
                    <a:pt x="127" y="91"/>
                    <a:pt x="47" y="169"/>
                    <a:pt x="10" y="275"/>
                  </a:cubicBezTo>
                  <a:cubicBezTo>
                    <a:pt x="16" y="313"/>
                    <a:pt x="0" y="362"/>
                    <a:pt x="27" y="389"/>
                  </a:cubicBezTo>
                  <a:cubicBezTo>
                    <a:pt x="77" y="439"/>
                    <a:pt x="129" y="347"/>
                    <a:pt x="140" y="324"/>
                  </a:cubicBezTo>
                  <a:cubicBezTo>
                    <a:pt x="161" y="282"/>
                    <a:pt x="164" y="219"/>
                    <a:pt x="173" y="178"/>
                  </a:cubicBezTo>
                  <a:cubicBezTo>
                    <a:pt x="187" y="116"/>
                    <a:pt x="220" y="62"/>
                    <a:pt x="189" y="0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0800" y="4800600"/>
              <a:ext cx="2048040" cy="674640"/>
            </a:xfrm>
            <a:custGeom>
              <a:avLst/>
              <a:gdLst/>
              <a:ahLst/>
              <a:rect l="l" t="t" r="r" b="b"/>
              <a:pathLst>
                <a:path w="1290" h="425">
                  <a:moveTo>
                    <a:pt x="406" y="81"/>
                  </a:moveTo>
                  <a:cubicBezTo>
                    <a:pt x="293" y="93"/>
                    <a:pt x="189" y="111"/>
                    <a:pt x="81" y="146"/>
                  </a:cubicBezTo>
                  <a:cubicBezTo>
                    <a:pt x="65" y="162"/>
                    <a:pt x="44" y="175"/>
                    <a:pt x="33" y="195"/>
                  </a:cubicBezTo>
                  <a:cubicBezTo>
                    <a:pt x="16" y="225"/>
                    <a:pt x="0" y="292"/>
                    <a:pt x="0" y="292"/>
                  </a:cubicBezTo>
                  <a:cubicBezTo>
                    <a:pt x="115" y="330"/>
                    <a:pt x="223" y="295"/>
                    <a:pt x="325" y="243"/>
                  </a:cubicBezTo>
                  <a:cubicBezTo>
                    <a:pt x="336" y="254"/>
                    <a:pt x="355" y="261"/>
                    <a:pt x="357" y="276"/>
                  </a:cubicBezTo>
                  <a:cubicBezTo>
                    <a:pt x="361" y="309"/>
                    <a:pt x="341" y="340"/>
                    <a:pt x="341" y="373"/>
                  </a:cubicBezTo>
                  <a:cubicBezTo>
                    <a:pt x="341" y="390"/>
                    <a:pt x="352" y="406"/>
                    <a:pt x="357" y="422"/>
                  </a:cubicBezTo>
                  <a:cubicBezTo>
                    <a:pt x="447" y="407"/>
                    <a:pt x="523" y="392"/>
                    <a:pt x="600" y="341"/>
                  </a:cubicBezTo>
                  <a:cubicBezTo>
                    <a:pt x="622" y="346"/>
                    <a:pt x="645" y="347"/>
                    <a:pt x="665" y="357"/>
                  </a:cubicBezTo>
                  <a:cubicBezTo>
                    <a:pt x="679" y="364"/>
                    <a:pt x="685" y="381"/>
                    <a:pt x="698" y="389"/>
                  </a:cubicBezTo>
                  <a:cubicBezTo>
                    <a:pt x="713" y="398"/>
                    <a:pt x="730" y="400"/>
                    <a:pt x="746" y="406"/>
                  </a:cubicBezTo>
                  <a:cubicBezTo>
                    <a:pt x="800" y="400"/>
                    <a:pt x="855" y="397"/>
                    <a:pt x="909" y="389"/>
                  </a:cubicBezTo>
                  <a:cubicBezTo>
                    <a:pt x="926" y="386"/>
                    <a:pt x="940" y="370"/>
                    <a:pt x="957" y="373"/>
                  </a:cubicBezTo>
                  <a:cubicBezTo>
                    <a:pt x="981" y="377"/>
                    <a:pt x="999" y="397"/>
                    <a:pt x="1022" y="406"/>
                  </a:cubicBezTo>
                  <a:cubicBezTo>
                    <a:pt x="1043" y="414"/>
                    <a:pt x="1065" y="417"/>
                    <a:pt x="1087" y="422"/>
                  </a:cubicBezTo>
                  <a:cubicBezTo>
                    <a:pt x="1146" y="417"/>
                    <a:pt x="1208" y="425"/>
                    <a:pt x="1265" y="406"/>
                  </a:cubicBezTo>
                  <a:cubicBezTo>
                    <a:pt x="1290" y="398"/>
                    <a:pt x="1286" y="312"/>
                    <a:pt x="1265" y="276"/>
                  </a:cubicBezTo>
                  <a:cubicBezTo>
                    <a:pt x="1226" y="207"/>
                    <a:pt x="1077" y="202"/>
                    <a:pt x="1022" y="195"/>
                  </a:cubicBezTo>
                  <a:cubicBezTo>
                    <a:pt x="1063" y="154"/>
                    <a:pt x="1097" y="132"/>
                    <a:pt x="1152" y="114"/>
                  </a:cubicBezTo>
                  <a:cubicBezTo>
                    <a:pt x="1163" y="103"/>
                    <a:pt x="1188" y="96"/>
                    <a:pt x="1184" y="81"/>
                  </a:cubicBezTo>
                  <a:cubicBezTo>
                    <a:pt x="1179" y="62"/>
                    <a:pt x="1155" y="50"/>
                    <a:pt x="1136" y="49"/>
                  </a:cubicBezTo>
                  <a:cubicBezTo>
                    <a:pt x="1076" y="45"/>
                    <a:pt x="1017" y="60"/>
                    <a:pt x="957" y="65"/>
                  </a:cubicBezTo>
                  <a:cubicBezTo>
                    <a:pt x="910" y="81"/>
                    <a:pt x="858" y="81"/>
                    <a:pt x="811" y="97"/>
                  </a:cubicBezTo>
                  <a:cubicBezTo>
                    <a:pt x="793" y="103"/>
                    <a:pt x="781" y="123"/>
                    <a:pt x="763" y="130"/>
                  </a:cubicBezTo>
                  <a:cubicBezTo>
                    <a:pt x="737" y="140"/>
                    <a:pt x="709" y="141"/>
                    <a:pt x="682" y="146"/>
                  </a:cubicBezTo>
                  <a:cubicBezTo>
                    <a:pt x="660" y="141"/>
                    <a:pt x="627" y="150"/>
                    <a:pt x="617" y="130"/>
                  </a:cubicBezTo>
                  <a:cubicBezTo>
                    <a:pt x="605" y="105"/>
                    <a:pt x="633" y="77"/>
                    <a:pt x="633" y="49"/>
                  </a:cubicBezTo>
                  <a:cubicBezTo>
                    <a:pt x="633" y="32"/>
                    <a:pt x="622" y="16"/>
                    <a:pt x="617" y="0"/>
                  </a:cubicBezTo>
                  <a:cubicBezTo>
                    <a:pt x="600" y="1"/>
                    <a:pt x="444" y="1"/>
                    <a:pt x="390" y="33"/>
                  </a:cubicBezTo>
                  <a:cubicBezTo>
                    <a:pt x="388" y="34"/>
                    <a:pt x="308" y="109"/>
                    <a:pt x="325" y="114"/>
                  </a:cubicBezTo>
                  <a:cubicBezTo>
                    <a:pt x="353" y="123"/>
                    <a:pt x="379" y="92"/>
                    <a:pt x="406" y="81"/>
                  </a:cubicBez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282760" y="5410080"/>
            <a:ext cx="5161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Learn the Basic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 by Connie Campb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av-n-hairc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l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898720" y="3429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2589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629400" y="1219320"/>
            <a:ext cx="6951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u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2899080" y="34290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b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1905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9144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llow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2441880" y="266688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ye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24128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1931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twork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899080" y="342900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gr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2209680" y="4343400"/>
            <a:ext cx="220968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rpl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899080" y="34290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pur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1676160" cy="152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14526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77120" y="2209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em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ang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99080" y="34290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o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1752480" cy="133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600200" cy="19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4800600"/>
            <a:ext cx="1905120" cy="990720"/>
          </a:xfrm>
          <a:prstGeom prst="rightArrow">
            <a:avLst>
              <a:gd name="adj1" fmla="val 50000"/>
              <a:gd name="adj2" fmla="val 480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ofyla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ck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1066680"/>
            <a:ext cx="6858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!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are a color graduate.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847880" cy="1923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982440" cy="121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yeaahh!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2T18:03:18Z</dcterms:created>
  <dc:creator>Student</dc:creator>
  <dc:description/>
  <dc:language>en-US</dc:language>
  <cp:lastModifiedBy>Elisa Wern</cp:lastModifiedBy>
  <dcterms:modified xsi:type="dcterms:W3CDTF">2004-08-27T01:38:44Z</dcterms:modified>
  <cp:revision>6</cp:revision>
  <dc:subject/>
  <dc:title>No Slide Title</dc:title>
</cp:coreProperties>
</file>